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376-B6BC-4B51-81D5-18E5AC1D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DF31-682A-41C8-94E6-9B3BFA10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784-FD93-4AB9-AEEE-1329B7F6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709-10C2-4098-8B96-57E13DFB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1ED-7722-4161-AF36-890E788A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C41-0120-47EC-9D21-2ABE844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2A4-4CD2-4504-8920-29AA3D4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A38-D9DB-488B-B652-02D60F7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D21-D838-45D0-8384-AE89753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33A-634F-43A3-AD0A-E1BD048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210-6809-4278-B902-E301727E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8F8-B88B-460F-86D9-C8219900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B68C-B473-452E-AB7D-F4671F03A75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AITTE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 u="sng">
                <a:solidFill>
                  <a:srgbClr val="0000ff"/>
                </a:solidFill>
                <a:uFillTx/>
                <a:latin typeface="Arial"/>
              </a:rPr>
              <a:t>Mikron oheislaitt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oheisliitänn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kirjoitti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näytö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5050"/>
                </a:solidFill>
                <a:latin typeface="Arial"/>
              </a:rPr>
              <a:t>verkkokortit ja multimedialaitt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ikrotietokonelaittei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näytt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näppäimistö ja hii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keskusyksikk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Keskusyksikön toiminnalliset lohk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virtaläh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keskusmui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laajennusväyl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massamuistilaitteet ja väyl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791320" y="4495680"/>
            <a:ext cx="2851200" cy="1898640"/>
            <a:chOff x="5791320" y="4495680"/>
            <a:chExt cx="2851200" cy="18986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6705720" y="4495680"/>
              <a:ext cx="1936800" cy="18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791320" y="4800600"/>
              <a:ext cx="2009880" cy="159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9:57:52Z</dcterms:created>
  <dc:creator>atk</dc:creator>
  <dc:description/>
  <dc:language>en-US</dc:language>
  <cp:lastModifiedBy>Kurssi</cp:lastModifiedBy>
  <dcterms:modified xsi:type="dcterms:W3CDTF">2003-02-17T11:12:03Z</dcterms:modified>
  <cp:revision>4</cp:revision>
  <dc:subject/>
  <dc:title>LAITTEET </dc:title>
</cp:coreProperties>
</file>